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01E6D-BA2A-4525-BFAE-EE39EEB6E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6B27-9D4B-4A05-823D-0DD671B1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8A8-5562-4A58-BF49-FBDCC7E8C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00C7-35EB-4975-BDA6-FCAAAADF2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6C528-198D-440B-AE5A-6EF29224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7A860-F1D6-4531-97F7-3FE4DFA25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19C63-F220-4FD9-99DD-42C01623E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0CD3-D521-4155-A5F5-17ED63ED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E97E-DE51-4194-916E-A49007558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63A-ED7B-4775-920B-012CE7FF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6DFB-28C6-4160-9378-38E30DA83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8842-168B-4341-ABC0-AEEBDFC0E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7960-53E8-4167-8706-734F58B7D9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914400"/>
            <a:ext cx="6934320" cy="4876920"/>
          </a:xfrm>
          <a:prstGeom prst="rect">
            <a:avLst/>
          </a:prstGeom>
          <a:noFill/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02920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029200" y="51814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02920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9144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6668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45720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3352680"/>
            <a:ext cx="2971800" cy="6098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029200" y="2743200"/>
            <a:ext cx="297180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888840"/>
            <a:ext cx="53352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5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6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7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1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9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0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31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533520" y="914040"/>
            <a:ext cx="48528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080920" y="4572000"/>
            <a:ext cx="4852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at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00600" y="888840"/>
            <a:ext cx="1143000" cy="49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5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5.8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0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0.3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7.1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7.1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41.5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41.5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8.3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8.3 S</a:t>
            </a:r>
            <a:br>
              <a:rPr sz="2000"/>
            </a:b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2.8 N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2.8 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13644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Index: 1 ... N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705720" y="624852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Longitu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5222520" y="223488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353016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5400000">
            <a:off x="3530160" y="22428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5400000">
            <a:off x="5282640" y="4071600"/>
            <a:ext cx="61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533520"/>
            <a:ext cx="60984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533520"/>
            <a:ext cx="6094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5.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057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1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9092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6.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4864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37.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962520" y="457200"/>
            <a:ext cx="1143000" cy="57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1722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3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48.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43800" y="533520"/>
            <a:ext cx="68580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354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2193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60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0866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2400" y="838080"/>
            <a:ext cx="0" cy="510552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234006</cp:lastModifiedBy>
  <dcterms:modified xsi:type="dcterms:W3CDTF">2009-08-25T07:58:31Z</dcterms:modified>
  <cp:revision>21</cp:revision>
  <dc:subject/>
  <dc:title>PowerPoint Presentation</dc:title>
</cp:coreProperties>
</file>