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B15D9-F6E7-42B1-B629-A22EB9EF2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2F9C8-171C-4743-83D5-DBE435A17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7FD7E-6B25-4302-B695-3AD8C5AAF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ED93A-8818-4511-BC1F-9806E50D8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BF966-E046-4225-87D2-26A0D4828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DCE54-4242-4130-B6CB-BE470A777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F2E14-388B-4046-A98A-3ED0802FB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CB26E-1E95-4918-A813-145833250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AFDAA-24D3-4C85-821F-A95BD1683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A1B6F-A0A4-4972-AE11-8F3A12A36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8643D-FEC6-4B98-B428-08BD1A17C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54298-A3A3-41C4-A197-C31E142A5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AA72B-765A-42A3-A7C6-A3F7561F91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914400"/>
            <a:ext cx="6934320" cy="487692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914400"/>
            <a:ext cx="297180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5181480"/>
            <a:ext cx="2971800" cy="6098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029200" y="4572000"/>
            <a:ext cx="297180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029200" y="5181480"/>
            <a:ext cx="2971800" cy="6098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029200" y="1523880"/>
            <a:ext cx="2971800" cy="6098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029200" y="914400"/>
            <a:ext cx="297180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066680" y="1523880"/>
            <a:ext cx="2971800" cy="6098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066680" y="2743200"/>
            <a:ext cx="297180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066680" y="4572000"/>
            <a:ext cx="297180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66680" y="3352680"/>
            <a:ext cx="2971800" cy="6098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3352680"/>
            <a:ext cx="2971800" cy="6098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029200" y="2743200"/>
            <a:ext cx="297180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533520" y="914040"/>
            <a:ext cx="48528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ndex: 1 ... NL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080920" y="4572000"/>
            <a:ext cx="4852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Latitu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800600" y="888840"/>
            <a:ext cx="1143000" cy="49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85.8 N</a:t>
            </a:r>
            <a:br>
              <a:rPr sz="2000"/>
            </a:b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80.3 N</a:t>
            </a:r>
            <a:br>
              <a:rPr sz="2000"/>
            </a:b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74.7 N</a:t>
            </a:r>
            <a:br>
              <a:rPr sz="2000"/>
            </a:b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69.2 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8.3 N</a:t>
            </a:r>
            <a:br>
              <a:rPr sz="2000"/>
            </a:b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2.8 N</a:t>
            </a:r>
            <a:br>
              <a:rPr sz="2000"/>
            </a:b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2.8 S</a:t>
            </a:r>
            <a:br>
              <a:rPr sz="2000"/>
            </a:b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8.3 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69.2 S</a:t>
            </a:r>
            <a:br>
              <a:rPr sz="2000"/>
            </a:b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74.7 S</a:t>
            </a:r>
            <a:br>
              <a:rPr sz="2000"/>
            </a:b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80.3 N</a:t>
            </a:r>
            <a:br>
              <a:rPr sz="2000"/>
            </a:b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85.8 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90720" y="13644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ndex: 1 ... NL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705720" y="624852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Longitu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rot="5400000">
            <a:off x="5222520" y="2234880"/>
            <a:ext cx="61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...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3530160" y="4071600"/>
            <a:ext cx="61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...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rot="5400000">
            <a:off x="3530160" y="2242800"/>
            <a:ext cx="61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...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rot="5400000">
            <a:off x="5282640" y="4071600"/>
            <a:ext cx="61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...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066680" y="533520"/>
            <a:ext cx="609840" cy="57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0.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600200" y="533520"/>
            <a:ext cx="609480" cy="57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5.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057400" y="533520"/>
            <a:ext cx="685800" cy="57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11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90920" y="533520"/>
            <a:ext cx="685800" cy="57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16.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486400" y="533520"/>
            <a:ext cx="685800" cy="57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337.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2520" y="457200"/>
            <a:ext cx="1143000" cy="57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.....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.....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.....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.....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.....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72200" y="533520"/>
            <a:ext cx="685800" cy="57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343.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0" y="533520"/>
            <a:ext cx="685800" cy="57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348.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543800" y="533520"/>
            <a:ext cx="685800" cy="57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6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354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838080"/>
            <a:ext cx="0" cy="5105520"/>
          </a:xfrm>
          <a:prstGeom prst="line">
            <a:avLst/>
          </a:prstGeom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752480" y="838080"/>
            <a:ext cx="0" cy="5105520"/>
          </a:xfrm>
          <a:prstGeom prst="line">
            <a:avLst/>
          </a:prstGeom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286000" y="838080"/>
            <a:ext cx="0" cy="5105520"/>
          </a:xfrm>
          <a:prstGeom prst="line">
            <a:avLst/>
          </a:prstGeom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19520" y="838080"/>
            <a:ext cx="0" cy="5105520"/>
          </a:xfrm>
          <a:prstGeom prst="line">
            <a:avLst/>
          </a:prstGeom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400800" y="838080"/>
            <a:ext cx="0" cy="5105520"/>
          </a:xfrm>
          <a:prstGeom prst="line">
            <a:avLst/>
          </a:prstGeom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086600" y="838080"/>
            <a:ext cx="0" cy="5105520"/>
          </a:xfrm>
          <a:prstGeom prst="line">
            <a:avLst/>
          </a:prstGeom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838080"/>
            <a:ext cx="0" cy="5105520"/>
          </a:xfrm>
          <a:prstGeom prst="line">
            <a:avLst/>
          </a:prstGeom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429000" y="887400"/>
            <a:ext cx="533520" cy="49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1</a:t>
            </a:r>
            <a:br>
              <a:rPr sz="2000"/>
            </a:b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3</a:t>
            </a:r>
            <a:br>
              <a:rPr sz="2000"/>
            </a:b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5</a:t>
            </a:r>
            <a:br>
              <a:rPr sz="2000"/>
            </a:b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29</a:t>
            </a:r>
            <a:br>
              <a:rPr sz="2000"/>
            </a:b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31</a:t>
            </a:r>
            <a:br>
              <a:rPr sz="2000"/>
            </a:b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32</a:t>
            </a:r>
            <a:br>
              <a:rPr sz="2000"/>
            </a:b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8</a:t>
            </a:r>
            <a:br>
              <a:rPr sz="2000"/>
            </a:b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6</a:t>
            </a:r>
            <a:br>
              <a:rPr sz="2000"/>
            </a:b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4</a:t>
            </a:r>
            <a:br>
              <a:rPr sz="2000"/>
            </a:b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234006</cp:lastModifiedBy>
  <dcterms:modified xsi:type="dcterms:W3CDTF">2009-08-25T08:00:34Z</dcterms:modified>
  <cp:revision>22</cp:revision>
  <dc:subject/>
  <dc:title>PowerPoint Presentation</dc:title>
</cp:coreProperties>
</file>