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EFC-9E57-467B-B5E1-BE511708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F1E-0911-47A6-8A37-1C19478D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343-933A-4447-8962-CC3B9AA3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8F1-BBE2-457E-AB05-2EF2443F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DBD-3C03-4AC2-9D9E-926A071E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B49-B036-4438-BB98-8658FD6C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CD4-5A9F-4349-9E2E-16D6C60F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D7A-2643-422D-97CD-3B7560CF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CCD-C6FD-477F-B54A-7C44AAE7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A3F-5329-4418-AB18-3B944645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7F5-00F9-4393-987A-C34CD51B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AE0-CBC5-4AB5-BE41-6DCEEA13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764E-909A-4107-8551-382198F1C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914400"/>
            <a:ext cx="6934320" cy="48769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33520" y="914040"/>
            <a:ext cx="485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80920" y="4572000"/>
            <a:ext cx="48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888840"/>
            <a:ext cx="11430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5.8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0.3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74.7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69.2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.3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.8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.8 S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.3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69.2 S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74.7 S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0.3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5.8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36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6248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5222520" y="223488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53016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30160" y="22428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528264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33520"/>
            <a:ext cx="60984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533520"/>
            <a:ext cx="6094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6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3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57200"/>
            <a:ext cx="1143000" cy="57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8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4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887400"/>
            <a:ext cx="53352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5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9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1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2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6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234006</cp:lastModifiedBy>
  <dcterms:modified xsi:type="dcterms:W3CDTF">2009-08-25T08:00:34Z</dcterms:modified>
  <cp:revision>22</cp:revision>
  <dc:subject/>
  <dc:title>PowerPoint Presentation</dc:title>
</cp:coreProperties>
</file>