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80A-9085-4871-889C-1BED4924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736-0E1E-44A0-8E30-C2D7A87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09B-7736-438F-9213-EC484591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074-AC09-4D86-8F30-0992ED82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8C9-91F7-4928-AEF7-76A5629C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5C2-28D7-4386-8AD0-1E888496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6FF-498F-456E-B183-808A3DFA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0D0-3C22-4B25-970B-EFAEAB79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8EB-AE24-4E3F-AB41-7BF9E4EC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88B-F0D3-46E2-896D-FD7975E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F69-524A-490B-8543-25B2ABF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4A0-0FC6-4BA0-8BBF-134318F6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31BC-A377-45B5-9AFC-9108F1FB5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14400"/>
            <a:ext cx="6934320" cy="48769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888840"/>
            <a:ext cx="5335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5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6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7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9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0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1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3520" y="914040"/>
            <a:ext cx="485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80920" y="4572000"/>
            <a:ext cx="48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888840"/>
            <a:ext cx="11430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5.8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5.8 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0.3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0.3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47.1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7.1 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41.5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1.5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.3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.3 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.8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.8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36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222520" y="223488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3016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530160" y="22428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528264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33520"/>
            <a:ext cx="6098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3352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6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3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457200"/>
            <a:ext cx="11430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234006</cp:lastModifiedBy>
  <dcterms:modified xsi:type="dcterms:W3CDTF">2009-08-25T07:58:31Z</dcterms:modified>
  <cp:revision>21</cp:revision>
  <dc:subject/>
  <dc:title>PowerPoint Presentation</dc:title>
</cp:coreProperties>
</file>